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C07-D198-4E27-9112-052C13A5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3E11-5AD6-4028-95B9-B864ABB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E52-D64E-4967-AB36-F58B6C7C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C8A-E990-432A-860C-EA1FE9DB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415-8F90-4B78-A420-51BDE45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0BE-4C37-4C22-B064-F076AF20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BDE-FC0D-4086-980C-047A41C9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3F6-629E-4FA4-BFF0-3855367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B6C-AA49-4379-BC5F-B32C4F6A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572-C336-4210-A075-45A5B92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0D8-06EC-4172-8C70-24651014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3BF-CA97-4691-95EF-7C74B19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FC5F-B154-4783-8B8B-275A3D2F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53920" y="128520"/>
            <a:ext cx="6432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</a:t>
            </a:r>
            <a:r>
              <a:rPr b="1" lang="bg-BG" sz="4400" spc="-1" strike="noStrike">
                <a:solidFill>
                  <a:srgbClr val="bbe0e3"/>
                </a:solidFill>
                <a:latin typeface="comic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еч на вратата Бог стои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кръста що за нас умря;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дойде да ни събере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отведе в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247760" y="360"/>
            <a:ext cx="805536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знаци вред около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се тази истина вестят: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"Ще дойде скоро славний Княз."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ела ни да блестя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034640" y="189720"/>
            <a:ext cx="674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Чада на Бога, да не сп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до последния си ч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бъдем будни и да бди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ъй да посрещнем Спас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30840" y="4047120"/>
            <a:ext cx="715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bbe0e3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иде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ни вземе в вечния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Ето иде, ето и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с да вземе на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1:02:58Z</dcterms:created>
  <dc:creator>TrifonTrifonow</dc:creator>
  <dc:description/>
  <dc:language>en-US</dc:language>
  <cp:lastModifiedBy>TrifonTrifonow</cp:lastModifiedBy>
  <dcterms:modified xsi:type="dcterms:W3CDTF">2005-11-23T21:16:10Z</dcterms:modified>
  <cp:revision>4</cp:revision>
  <dc:subject/>
  <dc:title>Slide 1</dc:title>
</cp:coreProperties>
</file>